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3ED2-6C5E-48A4-8A03-65615D850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A20F-EBC9-4EDA-896A-F690105AF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F568-B10C-4A4D-A88D-FE3F6D7CB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3760-75E6-4E21-B45C-86B373235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2AC5A-DCF2-4066-960E-31FF2A51A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9D953-67DC-40E4-A623-589B123D2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1071D-4882-4A7E-8BCA-EE2E17142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C3F52-1CC2-44C7-A39F-439B1E1E3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43C8B-DF27-446C-974B-BE7DFEC29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EB34A-F9F2-416F-8BE4-7B60DB0A0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1352A-82C9-4C85-A578-4F8D1BAC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2393-483D-4AAC-9DD8-15565C892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2A459-CF4F-49F0-82D9-B74BBF6F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E14B8-7BCF-4B85-9A76-AC1E3962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7EEB6-FEFD-423B-AB35-DDFB40A7A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0B94D-F44D-41CF-B9AF-C112697E6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75DD6-7BE9-4997-BE5B-AD6DD526F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03B0-2A0C-45AC-BB23-5A408B79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E6CA-1090-49C9-9F78-FE433F45D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615C-B5BE-4EEA-8C4F-47DFE0EFF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1DA8-E349-4C8C-9566-5AEFEA8C4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4496-705B-4E98-87A1-8E1D4A5D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EB9E-0989-47DE-B1AE-70EFD44C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5CCF-911F-4954-B805-0446D0DB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6F0F0-26BA-4CC2-ACE2-62504C600E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AB789-64D8-4077-B346-202858420B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95280" y="2438280"/>
            <a:ext cx="6400800" cy="41911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ving read Judith Viorst’s 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Alexander and the Horrible, Terrible, No Good, Very Bad Day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exander</a:t>
            </a:r>
            <a:r>
              <a:rPr b="0" lang="zh-CN" sz="4400" spc="-1" strike="noStrike">
                <a:solidFill>
                  <a:srgbClr val="ff0000"/>
                </a:solidFill>
                <a:latin typeface="Comic Sans MS"/>
              </a:rPr>
              <a:t>和他的可怕的，恐怖的，不好的，非常不好的日子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90876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nalyze how the strategies employed by the author develop her narrator’s perspectiv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omic Sans MS"/>
              </a:rPr>
              <a:t>分析作者使用的方法如何讲她作为叙述者的角度阐述出来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9T01:19:53Z</dcterms:created>
  <dc:creator>DELL</dc:creator>
  <dc:description/>
  <dc:language>en-US</dc:language>
  <cp:lastModifiedBy>SAS</cp:lastModifiedBy>
  <dcterms:modified xsi:type="dcterms:W3CDTF">2011-10-19T02:30:27Z</dcterms:modified>
  <cp:revision>5</cp:revision>
  <dc:subject/>
  <dc:title>Having read _______’s Alexander and the Horrible, Terrible, No Good, Very Bad Day …</dc:title>
</cp:coreProperties>
</file>